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192C-16FA-44B0-8ADE-112EB7F6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0279-475E-496F-A378-E15D762F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70BE-D6BB-441F-A34E-0A9281EFC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20D8-35E3-417C-8E5C-69BF450B0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A118-F2F8-40AA-920C-42F324E5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51EE-7121-4E58-8DD9-1C6AD692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12E9-4AAB-4CBA-B821-0CB84B59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53CC-C8E5-422A-9B89-A46E168E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8E69-693A-4779-B7C9-29619AEE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B408-2D4A-41F5-9A33-F1C8D24E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C23B-6F43-4311-9717-9D3D7CD6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7516-B8C3-4D74-8AD8-9947E228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AD19-4E07-4575-9517-C528F67D0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sundheit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lfgang Sachd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uchen ist nicht gut fur deine Gesundheit.  Du musst gesund bleib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photo07"/>
          <p:cNvPicPr/>
          <p:nvPr/>
        </p:nvPicPr>
        <p:blipFill>
          <a:blip r:embed="rId1"/>
          <a:stretch/>
        </p:blipFill>
        <p:spPr>
          <a:xfrm>
            <a:off x="2666880" y="1828800"/>
            <a:ext cx="397188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finde es prima dass du Lauft jeden Ta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01_Usain-Bolt"/>
          <p:cNvPicPr/>
          <p:nvPr/>
        </p:nvPicPr>
        <p:blipFill>
          <a:blip r:embed="rId1"/>
          <a:stretch/>
        </p:blipFill>
        <p:spPr>
          <a:xfrm>
            <a:off x="533520" y="1655640"/>
            <a:ext cx="8001000" cy="44402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981080" y="624852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981080" y="624852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 ist Wolfga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esse viel Obst und Gemüse fur mein Gesundh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100406162941-large.jpg"/>
          <p:cNvPicPr/>
          <p:nvPr/>
        </p:nvPicPr>
        <p:blipFill>
          <a:blip r:embed="rId1"/>
          <a:stretch/>
        </p:blipFill>
        <p:spPr>
          <a:xfrm>
            <a:off x="1371600" y="1828800"/>
            <a:ext cx="632448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schlafe für 7 Stunden Jeden Ta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Content Placeholder 3" descr="th__Baby_Pillow.jpg"/>
          <p:cNvPicPr/>
          <p:nvPr/>
        </p:nvPicPr>
        <p:blipFill>
          <a:blip r:embed="rId1"/>
          <a:stretch/>
        </p:blipFill>
        <p:spPr>
          <a:xfrm>
            <a:off x="1806480" y="1874880"/>
            <a:ext cx="550872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bin Gymnastiks machen jeden Ta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Content Placeholder 3" descr="Stretches-Images.jpg"/>
          <p:cNvPicPr/>
          <p:nvPr/>
        </p:nvPicPr>
        <p:blipFill>
          <a:blip r:embed="rId1"/>
          <a:stretch/>
        </p:blipFill>
        <p:spPr>
          <a:xfrm>
            <a:off x="1425600" y="1947960"/>
            <a:ext cx="604188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kann manchmal Shokolade e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Ich kann nicht entspannen, weil ich sehr beschäftigt bi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8:23:48Z</dcterms:created>
  <dc:creator>CUSD220</dc:creator>
  <dc:description/>
  <dc:language>en-US</dc:language>
  <cp:lastModifiedBy> </cp:lastModifiedBy>
  <dcterms:modified xsi:type="dcterms:W3CDTF">2012-03-01T03:16:41Z</dcterms:modified>
  <cp:revision>6</cp:revision>
  <dc:subject/>
  <dc:title>Gesundheit!!</dc:title>
</cp:coreProperties>
</file>